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F6E-2491-43CB-9482-69F127B4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8F9-8E8E-4142-A61B-DBD383C5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43D-5B1B-4FFF-BE31-12E802E2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8A5-F4BA-4BFF-8004-E5256DB5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9D24-29DF-40A5-A6BB-B82DB496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5587-9F30-4B35-AC29-D4DE6F1A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AB74-8C6F-41A7-8747-DBD9AC98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3A16-3986-4320-9C61-ADEE656B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AB28-9C2E-4424-9A57-C01CC1F5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3FFE-C201-488C-97F1-26ED597D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771D-AD9F-4CFA-9DB9-F48AAC80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2E4-8D3B-41BE-8950-863A4E09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575E-9D24-49A2-88DC-4767417E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EFEC-288F-4147-9EC5-8ACD583E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4CB5-B42B-43EF-A599-6F77DAEC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E03C-525B-4363-9AA3-E6CF86C2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DA29-57EB-42FC-8067-44482CCF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322-B481-48D5-9FD4-7947EC19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4B1-D467-4AB3-B63E-8F7965E7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7F2-6DFC-491F-A697-40F89D31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C5D-7DA1-40BC-BC6E-006011EC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504-B872-4770-B5DC-0AA3E0EE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E65-7E98-4661-83FB-8CEE8625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221-C6BE-4F55-A551-82D226A1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B68C-BFA5-4313-AB89-64C7589AAA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7C69-60EE-473A-BF28-CCF5FE826E4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nline Etiquette &amp; Safet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have cyberpal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eb sites do you go to to cha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kinds of things do you chat abou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given out personal information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visited a web site with inappropriate cont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you ever been a victim of cyberbully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so, describe what happen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id you deal with the situ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you ever been a witness to cyberbullying that was not directed at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d you do anything? If so, what did you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 of Etiquet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manners and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ys to behave in different sit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What would happen if people made up their own rules when driving? Or in the classroom? At a restaurant or movi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the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gns or pos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ers or adul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 set by oth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line Etiquet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hing online is priv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that there are real people behind screen na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you write can be misinterpre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you write online can be easily reproduced and distributed without your permissio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line Etiquet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considerate of 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write hurtful, mean or inappropriate  com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someone’s permission before you post pictures or videos of th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cyberbull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one who uses the Internet or text messaging to harass, threaten, or spread rumor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hing you think is funny may not be funny to others- think before you post any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o do about cyberbul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l an adult (parent, teacher, counselor) about the bully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open, read or respond to messages from cyberbull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not erase the bully’s messages- keep them for evid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an adult check to see if the bully can be block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come across anything (web sites, bad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guage, insults) that doesn’t see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 to you, check with an adul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fe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visit web sites that are appropriate for people your 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“sign” an agreement or “terms of use” without checking with an adult first- especially if there is an age requir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ver give out any personal information- your address, last name, school, e-mail address, phone number, pass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reating a user name- pick one that does not give away your true ident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s Cited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'Cornwall, Phyllis.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Online Etiquette and Safe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Ann Arbor, MI: Cherry Lake Publishing, 2011. Prin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4:10:51Z</dcterms:created>
  <dc:creator>reading</dc:creator>
  <dc:description/>
  <dc:language>en-US</dc:language>
  <cp:lastModifiedBy>reading</cp:lastModifiedBy>
  <dcterms:modified xsi:type="dcterms:W3CDTF">2012-01-18T14:05:45Z</dcterms:modified>
  <cp:revision>7</cp:revision>
  <dc:subject/>
  <dc:title>Online Etiquette &amp; Safety</dc:title>
</cp:coreProperties>
</file>